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7.png" ContentType="image/png"/>
  <Override PartName="/ppt/media/image34.jpeg" ContentType="image/jpeg"/>
  <Override PartName="/ppt/media/image22.jpeg" ContentType="image/jpeg"/>
  <Override PartName="/ppt/media/image9.png" ContentType="image/png"/>
  <Override PartName="/ppt/media/image38.jpeg" ContentType="image/jpeg"/>
  <Override PartName="/ppt/media/image40.jpeg" ContentType="image/jpeg"/>
  <Override PartName="/ppt/media/image41.jpeg" ContentType="image/jpeg"/>
  <Override PartName="/ppt/media/image39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42.jpeg" ContentType="image/jpeg"/>
  <Override PartName="/ppt/media/image14.png" ContentType="image/png"/>
  <Override PartName="/ppt/media/image6.png" ContentType="image/png"/>
  <Override PartName="/ppt/media/image5.png" ContentType="image/png"/>
  <Override PartName="/ppt/media/image29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34A80-9525-4167-9B08-8A7A4035AD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86B2F-E508-48AC-B915-CBDA8EED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A357B9-B5DD-418A-93E0-2ED037DB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E9A964-82D1-42F1-9958-6B6C60AE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6799F2-8B95-44E1-96AD-CE945378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F3417E-5854-450F-AF24-61021C00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AFD8B1-7A2C-4482-9063-641EB47B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A36416-E34A-4B65-81CB-ECB53B81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F75963-138E-4560-9664-84E75390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FE85CB-0A53-4DD5-8B21-1F032703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D74E4C-4ADC-4B8F-BE57-8D045BB257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FA06D-E654-48FA-BAC5-96DF0B0711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319B0-6A3D-496A-8807-51198441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B015A-B9F8-4DBF-B1D1-EBFBC5E2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DAA85-6308-4BA4-A403-613756C2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F1740-CD0A-4572-8CBA-44C0F281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0C764-F9E4-46D5-A3E7-11BD68C07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F814A-D021-4DD1-B2CD-27911E1D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97711-7BE8-4442-9901-5BDCF77F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C5860-0FD9-40EA-BCA1-4D76D5FD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6F7FF-6538-4D9E-AB3E-9EE78E5F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E90CD-26A6-46CC-AB82-47518394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C6C80-E5F6-446C-BFC9-D0BF4A05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F72C8-452E-4BCF-90BB-02204FB81E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700C7-AF51-43F1-92E9-29DF8A7090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E8A4E5-72AD-45AF-AF2C-45DF4AC4F9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F5D8B4-81C8-434B-9EB5-2951883D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161B56-6300-4C10-BB72-1100DC74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A6CB8B-39D0-4062-AAB0-8C857098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3E66DC-9C56-4D61-95AC-372434BA0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5212B0-FEB7-4439-98E6-EE068A7A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95A245-6DE8-4CEE-A28C-7CA2D5E7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4CE992-0280-44E7-A838-051A24D0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707D8A-BCCB-4731-811B-E2D15395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5F45C-1C64-4ED3-9FC5-CD0C141FF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4E7FA4-8CEE-47D8-AB28-C5D5BC92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DABDE3-FC63-44F5-AEAF-B060F0F1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84F840-C5E0-46AF-8819-8222B2D231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AC0B66-04A4-41BA-A0D3-C5EDDCE522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8DAB81-F832-48B3-9F50-B41F4D86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4FFB67-17A4-4DF6-82A2-B2B55E70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E43514-732E-4A92-AC86-84249197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9B6624-B2ED-4531-8C26-914C9579E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14AFF6-2155-443F-926A-28647C84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6D1BFC-0D18-4FEA-9AEF-384E1F89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4BC98-1ED4-4477-9545-14622424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E50140-1B86-4A5E-BB0F-2BC9AB5E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FF80CA-B574-40CB-9481-0FCB1B66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8E17B0-635E-43C9-9162-403BC8A4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5B58EF-0ACC-40F4-ADBC-946C0FD3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D21C8B-45CF-4D18-8AE0-7E80499824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EBCDB-9522-4333-A9C8-3A75DA49DD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DE276-984C-4002-9F74-38A570BF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17380-A447-4448-8FF1-E2B290E7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7105E-9EA8-4C10-8F9A-9E88C2FA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A9084-D7A5-452E-B265-FAFF8C0A5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CFAA3-9BB3-407C-9B15-2DDEE07E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74A0F-8646-4C09-BC5B-9ED6702D3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724AC-EB94-4C04-91E6-9A1067A8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CA2D1-07B4-4AAE-BAAD-ABF45336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1C73A-9D1E-49EB-8238-AF187EAB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C7AFF-B700-4D78-B43B-83DC9ABA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DC798-0ADA-4674-AFC6-AAA481EF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4D292-227A-4AB7-9FC1-ED2C2755CC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62F23-40EF-4751-B545-153024CB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B97EA-7AC4-4FAA-B420-69F41CC6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40F9A-03A4-4179-BB24-B2DD9375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F0132-6713-4032-8D11-507CC731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F9F2F-C65B-467B-8A75-E8C77CA2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E747E-B4AE-485C-8272-AAB48F80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9D205-4E3A-4930-8F4E-E8D0D59B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8CFAF-1187-4D84-8B26-17BC41E6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39CCE-CF4F-4CDC-A1DC-CE3EC85A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BA2F35-8B32-4B7C-AC67-8269075E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E62F8-83CF-40F5-B1E8-82C7542B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30289-E067-4466-A5F0-84C5C11A3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6FCF6-AC5B-4FEF-ACED-4E64B697E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8DE4B-E894-42B5-BE45-6A90303F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B2935-59DE-450E-B587-107AEC5E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3EB4E-BC35-463E-B529-58FD3DEA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E7575-E285-4771-BD8D-037AB14B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1F5AF-ADA9-4332-BC35-CB082490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66C65-1C67-46EA-ABD1-B6577C37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27256-BD3C-4838-B09B-D17D0968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C77A8-F09A-4AA1-8E68-A84CD5C3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A850E-B536-4964-B72D-F8CEDF4B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017A4-8020-4EDD-8755-D059C420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E0808-3E92-42F6-9210-6B5EB3FF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39847-B311-4FB3-83FF-CC3369550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E80F4-5AFD-4B47-8CE8-52C685D9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3BC8D-4ACA-4553-83EB-A94B6370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A964D-6B2B-4192-B71D-86ABC8B46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D3C01-4F44-4BFF-A0E4-8D11C0F1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099D2-9133-4BDE-A85E-7041BBFD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B91EB-18F6-42EA-99B1-531464B1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BFA394-C9CC-46CA-8B18-516B6845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C9C43D-70CB-4D13-A45E-124B20B2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9BCFD-7C84-4216-AF6C-77F29496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932A4-A4EC-4CCD-A4F9-9FADD6F9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A928D4-6FC8-424D-AEF6-1DE35679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33060-AC39-44DE-8B46-A2A07EB2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D34EB-2C9E-4CD6-811A-F06FBE64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93AC17-40A2-47E6-8FFB-2088DFD02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B1F0F-6D83-4773-962B-43A78F892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CE6B02-81D5-4603-804D-75F56A35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099680-6532-4EA7-A55A-F6F3325B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2A5C41-DD6A-4371-83AD-746E9ADB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CA1CF9-87A1-49E1-A538-CCD98732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50BF21-7A86-4333-A64A-115AD21C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ADA256-4FDB-4E36-B526-5641B60F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AD2B47-66EE-42FA-94FC-FD3F6180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4FB27-BCDF-4D36-922F-EE771E8A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4187B-BEC5-469F-99CB-FAB46BD9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0F1473-4ECD-4138-834A-1FE69AF7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428E00-8262-4E53-9028-0B1EBF53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9781D3-7C6C-4817-B451-309B99BF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D926D7-B8AF-483F-B1B0-8FD77E9E3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419CC1-099C-43BE-AF96-5A5223D79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355778-6818-4482-8222-50C18399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2EB576-AAE4-41B8-B558-DAE8630D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91A0A3-DEE8-45E1-9F10-11D91BA5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9D36DC-5DEE-48E7-A1B6-AD369D28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6156FB-5D69-4288-9D08-FDF72035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0D6C2-D2DA-480D-9EB5-2729F59C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CBEEBF-A779-4383-BA1A-428D4247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B2305D-A835-4F73-9E48-B36504FA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90199D-FFA7-40B7-A827-4AD3C40B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E97B66-F970-4A1E-8CF2-ACD13914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42AC26-A2EB-412B-AD90-D01A0622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2DED16-3543-4EC7-B28A-0EA7D3E6E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875967-AD8C-4589-8196-9D0EE5FE1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7DF6E3-BFC8-49B0-9034-B23094CB0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D1270C-D4A1-45E4-938B-C466F060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1C2515-E684-4E3B-A43E-484FA4EF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8CE34-975A-42DB-839C-038E5AC7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216F9E-E316-4A0D-8622-94C08AD1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A513F6-CC59-43E7-8689-0244EBC0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C63AAD-0377-4C66-88EB-E22C84CC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6F9155-8742-464B-A5EC-CA6B50D7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0857EB-EB32-459B-AB51-6D2CE989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6CA187-9DEB-45D6-AA7E-826D61C7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B38875-EC7E-40AA-8F97-F80568F5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7FE3C9-7C56-47BB-819A-954ECC0C1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A97D36-E23E-4BFF-918D-08AA4BA8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8E4C6A-0285-4D46-A2E3-E373C020F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0EDD5-8528-4874-B1AC-1235A75B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48CE75-A839-4B35-93BF-FD13E625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9671AD-A9FE-4A21-B92E-4D6E0958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6AC099-633A-4FDA-84DB-10A02DF6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401A9D-4015-4BF7-BC01-78C1C90B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32D2B0-8726-4470-B301-632959B9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27029F-BFD7-4C10-8EC7-29A0D854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8D0766-B19C-4F7F-9A87-AD5A15C1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D4CF01-8BAD-4A60-9CF5-E6C9E722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61B716-CD80-44D4-B78B-CF603490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27B948-138A-45F3-BFDE-6FE31735E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15583F-3C8C-40B9-A116-F0BC22AA0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D897C1-18C7-42A4-861C-C321ECE24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BA526A-DBC9-47B4-ABA4-F58AD47C6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3781AA-6536-4750-A4E8-DD3AB374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E869A3-9A35-462C-BBF4-264F259D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851B28-A80C-4A1B-8D28-0637C0BE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0470BD-106D-4800-BB7A-DB365BFE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643DB6-4DAD-4BCA-9FDA-8DC50768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34E900-9DA7-4C30-83BD-2A3BCAD1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39B7C7-3291-4B23-8AFD-702D67BF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67A8B5-9B82-4CD6-9547-03DA8A23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D1C190-BC52-4413-94F7-865CAC53F4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3F4C0F-E080-46DE-8E61-08122240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000725-E43C-4333-80FD-08C5BE776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A7F360-39C4-4E79-BAAE-5DF9B064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9B1407-0B71-45C8-BF79-3A83C634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6D958D-1B47-47BC-A29C-E8D374A1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4E03BB-9DFA-4007-A4E6-1E1063FE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BBD833-4955-4A7D-89F3-E717085A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D1E587-F655-4631-BD84-5A070068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C2302F-CBD0-4927-85A1-5BC68DD5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A3E36B-6F06-4585-82F9-C16DE66D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9E22DE-2A5E-494B-BA40-04D78A30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6A6828-0597-46AA-818F-01043F9D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EDFC43-8848-4EC7-B84A-AF99D661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4189FA-EEBE-48C0-9004-205931C6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F78FBC-43B9-436D-962C-F570E2E6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D32C3E-5C76-4E37-B7E2-1BE6AE3F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DC86D0-2440-4A87-A891-9F58E209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3AEE83-8F94-4A78-B33C-82DED82B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7E8C54-D333-44FF-BE2E-8B96C0CB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745AE0-4130-4B84-A5CC-DA41DDC3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3D9C8A-C64E-4164-BFE0-0F095C2D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291E7A-2077-46D7-9206-53ED85BB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DBA2F4-AD17-4632-9068-F9A5B84C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978A5D-A60C-411D-8F1F-161BD6B2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75361C-2F9B-46C6-9C1D-1CEBE8A9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174ABE-CDCD-4EE4-9316-1BC88450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263E16-9C17-436C-A9E5-1CD030D5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A5C0FE-BED7-48FB-B4DD-C55B57A6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9ED1E0-9163-4B76-9FCB-12B5F5026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9C8339-C627-4596-9A88-92E813E74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5262E5-290C-4047-908C-DF68526D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4B2096-6934-4E89-9675-637512DF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47C1A7-9BF7-4A9B-8865-92162BBB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F750BF-DB66-49D7-966F-DE4A88F6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56DB03-8AAD-42A2-9C22-9EF49E97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715D7B-028F-4E40-97D1-66DC3F13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7919E8-AD62-4E66-9463-CA19B798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A46B11-DA0F-4229-8BB6-CC9E6F56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E81DDD-3C58-4CD3-A979-A02C1ECC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4AC095-F8BE-4C16-96B1-F7A60D73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ED53ED-FE3F-4361-AFDC-209BE80A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C6D1B3-C3B7-41D5-9F9B-A52D8D982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60995F-AE5E-4C1E-8C46-BD9DB96E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22183-78BB-4A34-B451-FE3DA607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827FF1-69B5-4F3F-BA68-29E93A58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60F2A0-075C-4FA8-ABCC-B7CD4548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90E957-FF35-47AB-ADCF-CC77CD7C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A97256-1302-4053-8995-EDE7FC33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FC884A-7461-41BD-BD80-94E6CF78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C44145-1365-4D47-A35D-BF2E56FD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78DFF9-C391-4B88-9E6D-6BB0CF9E26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298FF-303F-4B78-90BC-8C72755A45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4D1BB-9E90-4BD3-AE43-E85BD430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82084-1CA6-43E2-B360-C4FE4EFF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4092A-149C-4625-9E09-60481A18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4335D-A7FA-426B-B5B8-71B90BDE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4D11C-8E27-4193-B122-12F8CC24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39AD8-59AF-4967-8D52-60A16FCE4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A0AF4-579F-436A-A3B4-009076CD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CE788-FF16-4C34-8F7F-4C4CC99E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70F0A-2F10-45B5-8EC6-B63A0C47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75A48-37BF-4AF2-9BB1-6D205736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03E8B-C2CD-4375-8241-FF069111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A1D7F-BDEE-4E8C-BA7F-6ABDA592BD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984725-085A-4E4E-8CAE-3522C08642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F9D0E-8F15-449C-871E-DAF75920F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7ACC9F-3A3F-449F-BA9E-6284FE03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FD786C-1D28-4A43-8B23-E1C908E6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5D769A-B134-4E28-9EFE-1A0602A9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41020C-5966-48C8-816A-948AEC23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F1DC35-D4BC-40FB-94FB-9DC09D0DC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18D7F7-FED3-4B1F-B2CE-E73C8014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BDCF6E-3CA7-43D2-B5D6-0C3D5FA9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4A34CE-044B-40AD-9C8E-5A444F5F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8A148A-AA0F-4C56-9C22-4B585A0D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89C9BD-14AC-4FF0-A47B-82DCDBFA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C83E5-E94F-4637-8538-052D7D79C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F8A514-EB26-47D8-9FF6-E163FDF450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CCC1B0-41A2-4B53-8383-BAB1AEB79D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079F48-6749-493F-B0F6-2989D323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666B3D-CD3B-4BD7-8EF7-B8C285EA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0C4160-77A3-4FCD-B160-C73DD5E4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4B2BE5-0053-4594-BCB0-6686873B9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35273A-1078-4111-8ED5-13B80DEBB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BC25F3-8687-4CD9-A3AF-47E38C23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7ED7E0-8189-45B6-95D3-BE06A99D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AC3813-C97C-4694-BF28-48B74A9F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8C3BB-6BBE-4AA8-8A4B-C2F79638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E7C861-D811-4715-A888-93A087E2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F73714-A586-4DB0-99B5-196B1199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C1E0DE-2299-47E6-A5DC-A53DF4AC7B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F3A20-D0D9-4D5E-893E-72D6AB1B42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BADE9-471D-439F-BEBA-73F9CC18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01D1C-7546-412D-B12F-6EEA7F77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3F2B5-9706-4A5E-95F6-586AA4C0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99F57-09C4-42C7-BCD0-0DB82188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C271A-EE36-42DB-A94E-B8B615288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7FC98-ED86-41F1-BF8C-CACA8A23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E5E5F-3883-4A53-9DFB-DBE6C1DA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56B42-E6CB-4361-8F51-D972AB23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0E892-F46F-4FDC-8015-D117D903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5CEEA-FD75-43F2-9BE2-894BE1F9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20B94-A658-4ACC-927C-A3680395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37E36-07D4-43B5-8562-3D80A612D4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5EA2E2-27C3-4BCB-BC5B-7BD56E2526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472DC0-2290-4EA4-8A6A-8146247C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BD03F4-F11C-4BB9-8497-1D1291AD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B098D3-091D-4C3C-A26E-BEB8A32C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882EE2-EF41-4BC4-B126-E0626BF89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DEC40-7E35-4ADB-9EAD-6B2F69CC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74312C-76D3-4F6D-8AC6-9B9717BD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307004-00ED-4B78-B3DF-276B2CEB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CCAD2A-C89C-4115-B8ED-0F888882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337B21-4395-4DB9-90AE-8B1D1E8C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B2E68B-747D-4DCF-A85C-C8CAF5DC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E0AFC8-DE1C-4DDB-8AB0-7D828AC5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DD00B1-5749-403F-A4CD-09C15E04EB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74ABE7-73CA-4E11-88B3-61ED3615DF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C5F680-2CEB-4CDF-8541-E85FF59F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66B53D-31EC-4393-A40B-831E2AEB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DB4A-D4EA-4A20-8B6F-F2D3FEB3037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259A-3539-44A8-AC7E-94D75453D04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1948-76BC-497D-AD3E-BD687D586A3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3476-A275-4E16-8F36-72BCBE29EB7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B1CE-BDE5-499E-ADA4-E4C5E52AA01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C5CF-6DF6-4527-9FDB-A0AD0D4F874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F464-ACED-4F41-B2ED-3AC48639599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BE30-A5FE-47CD-B907-3025F0D33C4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EBB1-96C7-46BF-966F-53FBBD07F58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FC79-08CF-4DD2-B978-40E9FCE783C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1F8C-2E96-4902-B105-69CDBB4255D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2391-82B0-4554-A338-A312A312DC1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8B93-947B-4CA4-BE30-65EC8DE641D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0FC5-560C-4755-B3A7-F332DDA9CAD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69A5-70A8-4EA7-A964-082CB963315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8180-D8A5-45C1-A3C2-6C87CA6ACCD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2D2F-0B4D-48B4-9958-394AAA5F75A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DC55-5552-4BDF-A1D7-2CDC5A24537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C3E7-41E9-419F-8A53-9A406477732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9A8B-F1FA-434D-978E-C8982EFA70C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E1A4-0FEE-4C9D-81F0-AAFF0096044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5C41-8DBC-4FC2-A090-BDB2EBD5548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7B1D-83D3-4A07-8FFB-82690D9327A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F347-BB96-49ED-8E3A-4AB4CC20E0C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image" Target="../media/image37.jpeg"/><Relationship Id="rId12" Type="http://schemas.openxmlformats.org/officeDocument/2006/relationships/image" Target="../media/image38.jpeg"/><Relationship Id="rId13" Type="http://schemas.openxmlformats.org/officeDocument/2006/relationships/image" Target="../media/image38.jpeg"/><Relationship Id="rId14" Type="http://schemas.openxmlformats.org/officeDocument/2006/relationships/image" Target="../media/image39.jpeg"/><Relationship Id="rId15" Type="http://schemas.openxmlformats.org/officeDocument/2006/relationships/image" Target="../media/image40.jpeg"/><Relationship Id="rId16" Type="http://schemas.openxmlformats.org/officeDocument/2006/relationships/image" Target="../media/image36.jpeg"/><Relationship Id="rId17" Type="http://schemas.openxmlformats.org/officeDocument/2006/relationships/image" Target="../media/image41.jpeg"/><Relationship Id="rId18" Type="http://schemas.openxmlformats.org/officeDocument/2006/relationships/image" Target="../media/image42.jpeg"/><Relationship Id="rId19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7.jpeg"/><Relationship Id="rId14" Type="http://schemas.openxmlformats.org/officeDocument/2006/relationships/image" Target="../media/image28.jpeg"/><Relationship Id="rId15" Type="http://schemas.openxmlformats.org/officeDocument/2006/relationships/image" Target="../media/image29.jpeg"/><Relationship Id="rId16" Type="http://schemas.openxmlformats.org/officeDocument/2006/relationships/image" Target="../media/image30.jpeg"/><Relationship Id="rId17" Type="http://schemas.openxmlformats.org/officeDocument/2006/relationships/image" Target="../media/image31.png"/><Relationship Id="rId1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"/>
          <p:cNvGrpSpPr/>
          <p:nvPr/>
        </p:nvGrpSpPr>
        <p:grpSpPr>
          <a:xfrm>
            <a:off x="2284560" y="2448000"/>
            <a:ext cx="5167080" cy="360"/>
            <a:chOff x="2284560" y="2448000"/>
            <a:chExt cx="5167080" cy="360"/>
          </a:xfrm>
        </p:grpSpPr>
        <p:sp>
          <p:nvSpPr>
            <p:cNvPr id="987" name="Line 10"/>
            <p:cNvSpPr/>
            <p:nvPr/>
          </p:nvSpPr>
          <p:spPr>
            <a:xfrm>
              <a:off x="2284560" y="2448000"/>
              <a:ext cx="51670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 txBox="1"/>
            <p:nvPr/>
          </p:nvSpPr>
          <p:spPr>
            <a:xfrm>
              <a:off x="2284560" y="2448000"/>
              <a:ext cx="516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5"/>
          <p:cNvSpPr/>
          <p:nvPr/>
        </p:nvSpPr>
        <p:spPr>
          <a:xfrm>
            <a:off x="3521160" y="271620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6"/>
          <p:cNvSpPr/>
          <p:nvPr/>
        </p:nvSpPr>
        <p:spPr>
          <a:xfrm>
            <a:off x="3003480" y="2666880"/>
            <a:ext cx="664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集 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9"/>
          <p:cNvSpPr/>
          <p:nvPr/>
        </p:nvSpPr>
        <p:spPr>
          <a:xfrm>
            <a:off x="-876240" y="1744560"/>
            <a:ext cx="88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9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学广角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集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三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3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84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5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86" name="椭圆 2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7" name="椭圆 4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8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94" name="文本框 101"/>
          <p:cNvSpPr/>
          <p:nvPr/>
        </p:nvSpPr>
        <p:spPr>
          <a:xfrm>
            <a:off x="441360" y="920880"/>
            <a:ext cx="8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5" name="Picture 8" descr="u=3262775773,403585766&amp;gp=2"/>
          <p:cNvPicPr/>
          <p:nvPr/>
        </p:nvPicPr>
        <p:blipFill>
          <a:blip r:embed="rId8"/>
          <a:stretch/>
        </p:blipFill>
        <p:spPr>
          <a:xfrm>
            <a:off x="1479600" y="1285920"/>
            <a:ext cx="463680" cy="495360"/>
          </a:xfrm>
          <a:prstGeom prst="rect">
            <a:avLst/>
          </a:prstGeom>
          <a:ln w="0">
            <a:noFill/>
          </a:ln>
        </p:spPr>
      </p:pic>
      <p:pic>
        <p:nvPicPr>
          <p:cNvPr id="1196" name="Picture 9" descr="u=3446557892,41390954&amp;gp=3"/>
          <p:cNvPicPr/>
          <p:nvPr/>
        </p:nvPicPr>
        <p:blipFill>
          <a:blip r:embed="rId9"/>
          <a:stretch/>
        </p:blipFill>
        <p:spPr>
          <a:xfrm>
            <a:off x="2365200" y="1373040"/>
            <a:ext cx="255600" cy="320760"/>
          </a:xfrm>
          <a:prstGeom prst="rect">
            <a:avLst/>
          </a:prstGeom>
          <a:ln w="0">
            <a:noFill/>
          </a:ln>
        </p:spPr>
      </p:pic>
      <p:pic>
        <p:nvPicPr>
          <p:cNvPr id="1197" name="图片 1073742920" descr="u=2776865847,2079648029&amp;gp=2"/>
          <p:cNvPicPr/>
          <p:nvPr/>
        </p:nvPicPr>
        <p:blipFill>
          <a:blip r:embed="rId10"/>
          <a:stretch/>
        </p:blipFill>
        <p:spPr>
          <a:xfrm>
            <a:off x="3014640" y="1373040"/>
            <a:ext cx="646200" cy="378000"/>
          </a:xfrm>
          <a:prstGeom prst="rect">
            <a:avLst/>
          </a:prstGeom>
          <a:ln w="0">
            <a:noFill/>
          </a:ln>
        </p:spPr>
      </p:pic>
      <p:pic>
        <p:nvPicPr>
          <p:cNvPr id="1198" name="Picture 14" descr="u=2928723903,4219700122&amp;gp=2"/>
          <p:cNvPicPr/>
          <p:nvPr/>
        </p:nvPicPr>
        <p:blipFill>
          <a:blip r:embed="rId11"/>
          <a:stretch/>
        </p:blipFill>
        <p:spPr>
          <a:xfrm>
            <a:off x="6068880" y="1312920"/>
            <a:ext cx="590760" cy="441360"/>
          </a:xfrm>
          <a:prstGeom prst="rect">
            <a:avLst/>
          </a:prstGeom>
          <a:ln w="0">
            <a:noFill/>
          </a:ln>
        </p:spPr>
      </p:pic>
      <p:pic>
        <p:nvPicPr>
          <p:cNvPr id="1199" name="Picture 16" descr="u=1438941620,1280684428&amp;gp=0"/>
          <p:cNvPicPr/>
          <p:nvPr/>
        </p:nvPicPr>
        <p:blipFill>
          <a:blip r:embed="rId12"/>
          <a:stretch/>
        </p:blipFill>
        <p:spPr>
          <a:xfrm>
            <a:off x="7094520" y="1341360"/>
            <a:ext cx="353880" cy="382680"/>
          </a:xfrm>
          <a:prstGeom prst="rect">
            <a:avLst/>
          </a:prstGeom>
          <a:ln w="0">
            <a:noFill/>
          </a:ln>
        </p:spPr>
      </p:pic>
      <p:pic>
        <p:nvPicPr>
          <p:cNvPr id="1200" name="Picture 10" descr="u=1438941620,1280684428&amp;gp=0"/>
          <p:cNvPicPr/>
          <p:nvPr/>
        </p:nvPicPr>
        <p:blipFill>
          <a:blip r:embed="rId13"/>
          <a:stretch/>
        </p:blipFill>
        <p:spPr>
          <a:xfrm>
            <a:off x="1479600" y="2295360"/>
            <a:ext cx="376200" cy="405000"/>
          </a:xfrm>
          <a:prstGeom prst="rect">
            <a:avLst/>
          </a:prstGeom>
          <a:ln w="0">
            <a:noFill/>
          </a:ln>
        </p:spPr>
      </p:pic>
      <p:pic>
        <p:nvPicPr>
          <p:cNvPr id="1201" name="Picture 11" descr="u=844918832,954241891&amp;gp=0"/>
          <p:cNvPicPr/>
          <p:nvPr/>
        </p:nvPicPr>
        <p:blipFill>
          <a:blip r:embed="rId14"/>
          <a:stretch/>
        </p:blipFill>
        <p:spPr>
          <a:xfrm>
            <a:off x="2220840" y="2295360"/>
            <a:ext cx="542880" cy="405000"/>
          </a:xfrm>
          <a:prstGeom prst="rect">
            <a:avLst/>
          </a:prstGeom>
          <a:ln w="0">
            <a:noFill/>
          </a:ln>
        </p:spPr>
      </p:pic>
      <p:pic>
        <p:nvPicPr>
          <p:cNvPr id="1202" name="Picture 12" descr="u=4085512533,3456282603&amp;gp=2"/>
          <p:cNvPicPr/>
          <p:nvPr/>
        </p:nvPicPr>
        <p:blipFill>
          <a:blip r:embed="rId15"/>
          <a:stretch/>
        </p:blipFill>
        <p:spPr>
          <a:xfrm>
            <a:off x="3129120" y="2190600"/>
            <a:ext cx="610920" cy="615960"/>
          </a:xfrm>
          <a:prstGeom prst="rect">
            <a:avLst/>
          </a:prstGeom>
          <a:ln w="0">
            <a:noFill/>
          </a:ln>
        </p:spPr>
      </p:pic>
      <p:pic>
        <p:nvPicPr>
          <p:cNvPr id="1203" name="Picture 17" descr="u=2776865847,2079648029&amp;gp=2"/>
          <p:cNvPicPr/>
          <p:nvPr/>
        </p:nvPicPr>
        <p:blipFill>
          <a:blip r:embed="rId16"/>
          <a:stretch/>
        </p:blipFill>
        <p:spPr>
          <a:xfrm>
            <a:off x="6068880" y="2320920"/>
            <a:ext cx="646200" cy="379440"/>
          </a:xfrm>
          <a:prstGeom prst="rect">
            <a:avLst/>
          </a:prstGeom>
          <a:ln w="0">
            <a:noFill/>
          </a:ln>
        </p:spPr>
      </p:pic>
      <p:pic>
        <p:nvPicPr>
          <p:cNvPr id="1204" name="Picture 18" descr="u=3870079399,3804218488&amp;gp=0"/>
          <p:cNvPicPr/>
          <p:nvPr/>
        </p:nvPicPr>
        <p:blipFill>
          <a:blip r:embed="rId17"/>
          <a:stretch/>
        </p:blipFill>
        <p:spPr>
          <a:xfrm>
            <a:off x="6811920" y="2212920"/>
            <a:ext cx="552600" cy="487440"/>
          </a:xfrm>
          <a:prstGeom prst="rect">
            <a:avLst/>
          </a:prstGeom>
          <a:ln w="0">
            <a:noFill/>
          </a:ln>
        </p:spPr>
      </p:pic>
      <p:pic>
        <p:nvPicPr>
          <p:cNvPr id="1205" name="Picture 15" descr="u=908684329,619544379&amp;gp=2"/>
          <p:cNvPicPr/>
          <p:nvPr/>
        </p:nvPicPr>
        <p:blipFill>
          <a:blip r:embed="rId18"/>
          <a:stretch/>
        </p:blipFill>
        <p:spPr>
          <a:xfrm>
            <a:off x="7548480" y="2212920"/>
            <a:ext cx="619200" cy="480960"/>
          </a:xfrm>
          <a:prstGeom prst="rect">
            <a:avLst/>
          </a:prstGeom>
          <a:ln w="0">
            <a:noFill/>
          </a:ln>
        </p:spPr>
      </p:pic>
      <p:sp>
        <p:nvSpPr>
          <p:cNvPr id="1206" name="文本框 3"/>
          <p:cNvSpPr/>
          <p:nvPr/>
        </p:nvSpPr>
        <p:spPr>
          <a:xfrm>
            <a:off x="1258920" y="3429000"/>
            <a:ext cx="24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昨天进的水果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文本框 5"/>
          <p:cNvSpPr/>
          <p:nvPr/>
        </p:nvSpPr>
        <p:spPr>
          <a:xfrm>
            <a:off x="5581800" y="3429000"/>
            <a:ext cx="33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今天进的水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文本框 6"/>
          <p:cNvSpPr/>
          <p:nvPr/>
        </p:nvSpPr>
        <p:spPr>
          <a:xfrm>
            <a:off x="1033560" y="4221000"/>
            <a:ext cx="674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果店两天一共进了多少种水果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文本框 5"/>
          <p:cNvSpPr/>
          <p:nvPr/>
        </p:nvSpPr>
        <p:spPr>
          <a:xfrm>
            <a:off x="1365120" y="4933800"/>
            <a:ext cx="544680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答：水果店两天一共进了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种水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11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2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213" name="椭圆 2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4" name="椭圆 4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5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6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7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8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9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0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21" name="文本框 101"/>
          <p:cNvSpPr/>
          <p:nvPr/>
        </p:nvSpPr>
        <p:spPr>
          <a:xfrm>
            <a:off x="441360" y="846000"/>
            <a:ext cx="828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三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班的同学们到游乐园玩，坐碰碰车的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，玩旋转木马的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，两样都玩的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，去游乐园的有多少名同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文本框 3"/>
          <p:cNvSpPr/>
          <p:nvPr/>
        </p:nvSpPr>
        <p:spPr>
          <a:xfrm>
            <a:off x="2620800" y="2571840"/>
            <a:ext cx="349596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8+22-6=34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文本框 5"/>
          <p:cNvSpPr/>
          <p:nvPr/>
        </p:nvSpPr>
        <p:spPr>
          <a:xfrm>
            <a:off x="1473120" y="3624120"/>
            <a:ext cx="43704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答：去游乐园的有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仿宋"/>
              </a:rPr>
              <a:t>34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名同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01" name="椭圆 2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4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Rectangle 3"/>
          <p:cNvSpPr/>
          <p:nvPr/>
        </p:nvSpPr>
        <p:spPr>
          <a:xfrm>
            <a:off x="682560" y="472464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读一读，你知道了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3"/>
          <p:cNvSpPr/>
          <p:nvPr/>
        </p:nvSpPr>
        <p:spPr>
          <a:xfrm>
            <a:off x="682560" y="525348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共有多少人呢？谁来说一说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10"/>
          <p:cNvSpPr/>
          <p:nvPr/>
        </p:nvSpPr>
        <p:spPr>
          <a:xfrm>
            <a:off x="684360" y="1636560"/>
            <a:ext cx="820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是三（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班参加跳绳、踢毽比赛的学生名单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11"/>
          <p:cNvSpPr/>
          <p:nvPr/>
        </p:nvSpPr>
        <p:spPr>
          <a:xfrm>
            <a:off x="755640" y="3508200"/>
            <a:ext cx="554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参加这两项比赛的共有多少人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3" name="图片 5129" descr="07"/>
          <p:cNvPicPr/>
          <p:nvPr/>
        </p:nvPicPr>
        <p:blipFill>
          <a:blip r:embed="rId8"/>
          <a:stretch/>
        </p:blipFill>
        <p:spPr>
          <a:xfrm>
            <a:off x="755640" y="2133720"/>
            <a:ext cx="7769160" cy="136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15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6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17" name="椭圆 2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8" name="椭圆 4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9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25" name="八边形 3"/>
          <p:cNvSpPr/>
          <p:nvPr/>
        </p:nvSpPr>
        <p:spPr>
          <a:xfrm>
            <a:off x="103320" y="858960"/>
            <a:ext cx="514080" cy="51732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Box 1"/>
          <p:cNvSpPr/>
          <p:nvPr/>
        </p:nvSpPr>
        <p:spPr>
          <a:xfrm>
            <a:off x="641520" y="733320"/>
            <a:ext cx="78595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面是三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班参加跳绳、踢毽比赛的学生名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7" name=""/>
          <p:cNvGraphicFramePr/>
          <p:nvPr/>
        </p:nvGraphicFramePr>
        <p:xfrm>
          <a:off x="428760" y="1501920"/>
          <a:ext cx="8643960" cy="1706400"/>
        </p:xfrm>
        <a:graphic>
          <a:graphicData uri="http://schemas.openxmlformats.org/drawingml/2006/table">
            <a:tbl>
              <a:tblPr/>
              <a:tblGrid>
                <a:gridCol w="863640"/>
                <a:gridCol w="865080"/>
                <a:gridCol w="865080"/>
                <a:gridCol w="863640"/>
                <a:gridCol w="863640"/>
                <a:gridCol w="1108080"/>
                <a:gridCol w="622440"/>
                <a:gridCol w="863640"/>
                <a:gridCol w="863640"/>
                <a:gridCol w="865080"/>
              </a:tblGrid>
              <a:tr h="853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跳绳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杨明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陈东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刘红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李芳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王爱华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马超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丁旭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赵军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徐强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踢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刘红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于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周晓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杨明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朱小东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李芳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陶伟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卢强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8" name="TextBox 3"/>
          <p:cNvSpPr/>
          <p:nvPr/>
        </p:nvSpPr>
        <p:spPr>
          <a:xfrm>
            <a:off x="357120" y="3144960"/>
            <a:ext cx="4643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参加这两项比赛的共有多少人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9" name="Picture 2" descr="D:\我的文档-桌面-收藏夹\桌面\133Z4243G50-552L5463.jpg"/>
          <p:cNvPicPr/>
          <p:nvPr/>
        </p:nvPicPr>
        <p:blipFill>
          <a:blip r:embed="rId8"/>
          <a:stretch/>
        </p:blipFill>
        <p:spPr>
          <a:xfrm>
            <a:off x="3070080" y="4184640"/>
            <a:ext cx="2286000" cy="1959120"/>
          </a:xfrm>
          <a:prstGeom prst="rect">
            <a:avLst/>
          </a:prstGeom>
          <a:ln w="0">
            <a:noFill/>
          </a:ln>
        </p:spPr>
      </p:pic>
      <p:sp>
        <p:nvSpPr>
          <p:cNvPr id="1030" name="圆角矩形标注 5"/>
          <p:cNvSpPr/>
          <p:nvPr/>
        </p:nvSpPr>
        <p:spPr>
          <a:xfrm>
            <a:off x="284040" y="4255920"/>
            <a:ext cx="2428920" cy="1000440"/>
          </a:xfrm>
          <a:prstGeom prst="wedgeRoundRectCallout">
            <a:avLst>
              <a:gd name="adj1" fmla="val 66143"/>
              <a:gd name="adj2" fmla="val 456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宋体"/>
                <a:ea typeface="宋体"/>
              </a:rPr>
              <a:t>跳绳的有</a:t>
            </a:r>
            <a:r>
              <a:rPr b="0" lang="en-US" sz="2400" spc="-1" strike="noStrike">
                <a:solidFill>
                  <a:srgbClr val="1c1c1c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1c1c1c"/>
                </a:solidFill>
                <a:latin typeface="宋体"/>
                <a:ea typeface="宋体"/>
              </a:rPr>
              <a:t>人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宋体"/>
                <a:ea typeface="宋体"/>
              </a:rPr>
              <a:t>踢毽的有</a:t>
            </a:r>
            <a:r>
              <a:rPr b="0" lang="en-US" sz="2400" spc="-1" strike="noStrike">
                <a:solidFill>
                  <a:srgbClr val="1c1c1c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1c1c1c"/>
                </a:solidFill>
                <a:latin typeface="宋体"/>
                <a:ea typeface="宋体"/>
              </a:rPr>
              <a:t>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圆角矩形标注 6"/>
          <p:cNvSpPr/>
          <p:nvPr/>
        </p:nvSpPr>
        <p:spPr>
          <a:xfrm>
            <a:off x="5570640" y="4827600"/>
            <a:ext cx="2795400" cy="938160"/>
          </a:xfrm>
          <a:prstGeom prst="wedgeRoundRectCallout">
            <a:avLst>
              <a:gd name="adj1" fmla="val -61726"/>
              <a:gd name="adj2" fmla="val -15921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宋体"/>
                <a:ea typeface="宋体"/>
              </a:rPr>
              <a:t>可是参加这两项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宋体"/>
                <a:ea typeface="宋体"/>
              </a:rPr>
              <a:t>赛的没有</a:t>
            </a:r>
            <a:r>
              <a:rPr b="0" lang="en-US" sz="2400" spc="-1" strike="noStrike">
                <a:solidFill>
                  <a:srgbClr val="1c1c1c"/>
                </a:solidFill>
                <a:latin typeface="宋体"/>
              </a:rPr>
              <a:t>17</a:t>
            </a:r>
            <a:r>
              <a:rPr b="0" lang="zh-CN" sz="2400" spc="-1" strike="noStrike">
                <a:solidFill>
                  <a:srgbClr val="1c1c1c"/>
                </a:solidFill>
                <a:latin typeface="宋体"/>
                <a:ea typeface="宋体"/>
              </a:rPr>
              <a:t>人呀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圆角矩形标注 7"/>
          <p:cNvSpPr/>
          <p:nvPr/>
        </p:nvSpPr>
        <p:spPr>
          <a:xfrm>
            <a:off x="4278240" y="3787920"/>
            <a:ext cx="2078280" cy="498240"/>
          </a:xfrm>
          <a:prstGeom prst="wedgeRoundRectCallout">
            <a:avLst>
              <a:gd name="adj1" fmla="val -37134"/>
              <a:gd name="adj2" fmla="val 8780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一共有</a:t>
            </a: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17</a:t>
            </a: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人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八边形 3"/>
          <p:cNvSpPr/>
          <p:nvPr/>
        </p:nvSpPr>
        <p:spPr>
          <a:xfrm>
            <a:off x="103320" y="858960"/>
            <a:ext cx="514080" cy="51732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4" name="组合 2"/>
          <p:cNvGrpSpPr/>
          <p:nvPr/>
        </p:nvGrpSpPr>
        <p:grpSpPr>
          <a:xfrm>
            <a:off x="-12600" y="111240"/>
            <a:ext cx="3244680" cy="525240"/>
            <a:chOff x="-12600" y="111240"/>
            <a:chExt cx="3244680" cy="525240"/>
          </a:xfrm>
        </p:grpSpPr>
        <p:pic>
          <p:nvPicPr>
            <p:cNvPr id="1035" name="圆角矩形 6" descr=""/>
            <p:cNvPicPr/>
            <p:nvPr/>
          </p:nvPicPr>
          <p:blipFill>
            <a:blip r:embed="rId1"/>
            <a:stretch/>
          </p:blipFill>
          <p:spPr>
            <a:xfrm>
              <a:off x="137880" y="111240"/>
              <a:ext cx="3094200" cy="525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6" name="组合 4"/>
            <p:cNvGrpSpPr/>
            <p:nvPr/>
          </p:nvGrpSpPr>
          <p:grpSpPr>
            <a:xfrm>
              <a:off x="-12600" y="207000"/>
              <a:ext cx="429840" cy="271440"/>
              <a:chOff x="-12600" y="207000"/>
              <a:chExt cx="429840" cy="271440"/>
            </a:xfrm>
          </p:grpSpPr>
          <p:sp>
            <p:nvSpPr>
              <p:cNvPr id="1037" name="椭圆 8"/>
              <p:cNvSpPr/>
              <p:nvPr/>
            </p:nvSpPr>
            <p:spPr>
              <a:xfrm rot="16200000">
                <a:off x="230400" y="36936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8" name="椭圆 9" descr=""/>
              <p:cNvPicPr/>
              <p:nvPr/>
            </p:nvPicPr>
            <p:blipFill>
              <a:blip r:embed="rId2"/>
              <a:stretch/>
            </p:blipFill>
            <p:spPr>
              <a:xfrm>
                <a:off x="205560" y="33336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椭圆 10"/>
              <p:cNvSpPr/>
              <p:nvPr/>
            </p:nvSpPr>
            <p:spPr>
              <a:xfrm rot="16200000">
                <a:off x="230400" y="24372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0" name="椭圆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205560" y="22140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1" name="圆角矩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12600" y="349200"/>
                <a:ext cx="356400" cy="9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2" name="圆角矩形 13" descr=""/>
              <p:cNvPicPr/>
              <p:nvPr/>
            </p:nvPicPr>
            <p:blipFill>
              <a:blip r:embed="rId5"/>
              <a:stretch/>
            </p:blipFill>
            <p:spPr>
              <a:xfrm>
                <a:off x="-12600" y="321480"/>
                <a:ext cx="356400" cy="9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3" name="圆角矩形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-12600" y="234720"/>
                <a:ext cx="356400" cy="9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4" name="圆角矩形 15" descr=""/>
              <p:cNvPicPr/>
              <p:nvPr/>
            </p:nvPicPr>
            <p:blipFill>
              <a:blip r:embed="rId7"/>
              <a:stretch/>
            </p:blipFill>
            <p:spPr>
              <a:xfrm>
                <a:off x="-12600" y="207000"/>
                <a:ext cx="356400" cy="99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45" name="Picture 2" descr="D:\我的文档-桌面-收藏夹\桌面\133Z4243G50-552L5463.jpg"/>
          <p:cNvPicPr/>
          <p:nvPr/>
        </p:nvPicPr>
        <p:blipFill>
          <a:blip r:embed="rId8"/>
          <a:stretch/>
        </p:blipFill>
        <p:spPr>
          <a:xfrm>
            <a:off x="3357720" y="1327320"/>
            <a:ext cx="2286000" cy="1958760"/>
          </a:xfrm>
          <a:prstGeom prst="rect">
            <a:avLst/>
          </a:prstGeom>
          <a:ln w="0">
            <a:noFill/>
          </a:ln>
        </p:spPr>
      </p:pic>
      <p:sp>
        <p:nvSpPr>
          <p:cNvPr id="1046" name="圆角矩形标注 4"/>
          <p:cNvSpPr/>
          <p:nvPr/>
        </p:nvSpPr>
        <p:spPr>
          <a:xfrm>
            <a:off x="441360" y="1521000"/>
            <a:ext cx="2641680" cy="1137960"/>
          </a:xfrm>
          <a:prstGeom prst="wedgeRoundRectCallout">
            <a:avLst>
              <a:gd name="adj1" fmla="val 66143"/>
              <a:gd name="adj2" fmla="val 456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宋体"/>
                <a:ea typeface="宋体"/>
              </a:rPr>
              <a:t>我发现有的人两项比赛都参加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圆角矩形标注 5"/>
          <p:cNvSpPr/>
          <p:nvPr/>
        </p:nvSpPr>
        <p:spPr>
          <a:xfrm>
            <a:off x="5929200" y="1857240"/>
            <a:ext cx="2784600" cy="1303560"/>
          </a:xfrm>
          <a:prstGeom prst="wedgeRoundRectCallout">
            <a:avLst>
              <a:gd name="adj1" fmla="val -61726"/>
              <a:gd name="adj2" fmla="val -15921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宋体"/>
                <a:ea typeface="宋体"/>
              </a:rPr>
              <a:t>我把两项比赛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宋体"/>
                <a:ea typeface="宋体"/>
              </a:rPr>
              <a:t>参加的人连起来，有</a:t>
            </a:r>
            <a:r>
              <a:rPr b="0" lang="en-US" sz="2400" spc="-1" strike="noStrike">
                <a:solidFill>
                  <a:srgbClr val="1c1c1c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1c1c1c"/>
                </a:solidFill>
                <a:latin typeface="宋体"/>
                <a:ea typeface="宋体"/>
              </a:rPr>
              <a:t>个重复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圆角矩形标注 6"/>
          <p:cNvSpPr/>
          <p:nvPr/>
        </p:nvSpPr>
        <p:spPr>
          <a:xfrm>
            <a:off x="4357800" y="428760"/>
            <a:ext cx="2509560" cy="898560"/>
          </a:xfrm>
          <a:prstGeom prst="wedgeRoundRectCallout">
            <a:avLst>
              <a:gd name="adj1" fmla="val -37134"/>
              <a:gd name="adj2" fmla="val 8780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宋体"/>
                <a:ea typeface="宋体"/>
              </a:rPr>
              <a:t>怎样表示能清楚地看出来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圆角矩形 7"/>
          <p:cNvSpPr/>
          <p:nvPr/>
        </p:nvSpPr>
        <p:spPr>
          <a:xfrm>
            <a:off x="108000" y="3660840"/>
            <a:ext cx="8964720" cy="191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杨明  陈东  刘红  李芳  王爱华 马超  丁旭  赵军  徐强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刘红  于丽   周晓   杨明   朱小东   李芳  陶伟  卢强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直接连接符 16"/>
          <p:cNvSpPr/>
          <p:nvPr/>
        </p:nvSpPr>
        <p:spPr>
          <a:xfrm>
            <a:off x="714240" y="4071960"/>
            <a:ext cx="3071880" cy="1000080"/>
          </a:xfrm>
          <a:prstGeom prst="line">
            <a:avLst/>
          </a:prstGeom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直接连接符 17"/>
          <p:cNvSpPr/>
          <p:nvPr/>
        </p:nvSpPr>
        <p:spPr>
          <a:xfrm>
            <a:off x="3500280" y="4000680"/>
            <a:ext cx="2928960" cy="1000080"/>
          </a:xfrm>
          <a:prstGeom prst="line">
            <a:avLst/>
          </a:prstGeom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直接连接符 18"/>
          <p:cNvSpPr/>
          <p:nvPr/>
        </p:nvSpPr>
        <p:spPr>
          <a:xfrm flipH="1">
            <a:off x="713880" y="4000680"/>
            <a:ext cx="1785960" cy="1000080"/>
          </a:xfrm>
          <a:prstGeom prst="line">
            <a:avLst/>
          </a:prstGeom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八边形 3"/>
          <p:cNvSpPr/>
          <p:nvPr/>
        </p:nvSpPr>
        <p:spPr>
          <a:xfrm>
            <a:off x="103320" y="858960"/>
            <a:ext cx="514080" cy="51732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组合 2"/>
          <p:cNvGrpSpPr/>
          <p:nvPr/>
        </p:nvGrpSpPr>
        <p:grpSpPr>
          <a:xfrm>
            <a:off x="-12600" y="111240"/>
            <a:ext cx="3244680" cy="525240"/>
            <a:chOff x="-12600" y="111240"/>
            <a:chExt cx="3244680" cy="525240"/>
          </a:xfrm>
        </p:grpSpPr>
        <p:pic>
          <p:nvPicPr>
            <p:cNvPr id="1055" name="圆角矩形 6" descr=""/>
            <p:cNvPicPr/>
            <p:nvPr/>
          </p:nvPicPr>
          <p:blipFill>
            <a:blip r:embed="rId1"/>
            <a:stretch/>
          </p:blipFill>
          <p:spPr>
            <a:xfrm>
              <a:off x="137880" y="111240"/>
              <a:ext cx="3094200" cy="525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6" name="组合 4"/>
            <p:cNvGrpSpPr/>
            <p:nvPr/>
          </p:nvGrpSpPr>
          <p:grpSpPr>
            <a:xfrm>
              <a:off x="-12600" y="207000"/>
              <a:ext cx="429840" cy="271440"/>
              <a:chOff x="-12600" y="207000"/>
              <a:chExt cx="429840" cy="271440"/>
            </a:xfrm>
          </p:grpSpPr>
          <p:sp>
            <p:nvSpPr>
              <p:cNvPr id="1057" name="椭圆 8"/>
              <p:cNvSpPr/>
              <p:nvPr/>
            </p:nvSpPr>
            <p:spPr>
              <a:xfrm rot="16200000">
                <a:off x="230400" y="36936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8" name="椭圆 9" descr=""/>
              <p:cNvPicPr/>
              <p:nvPr/>
            </p:nvPicPr>
            <p:blipFill>
              <a:blip r:embed="rId2"/>
              <a:stretch/>
            </p:blipFill>
            <p:spPr>
              <a:xfrm>
                <a:off x="205560" y="33336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9" name="椭圆 10"/>
              <p:cNvSpPr/>
              <p:nvPr/>
            </p:nvSpPr>
            <p:spPr>
              <a:xfrm rot="16200000">
                <a:off x="230400" y="24372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0" name="椭圆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205560" y="22140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1" name="圆角矩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12600" y="349200"/>
                <a:ext cx="356400" cy="9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2" name="圆角矩形 13" descr=""/>
              <p:cNvPicPr/>
              <p:nvPr/>
            </p:nvPicPr>
            <p:blipFill>
              <a:blip r:embed="rId5"/>
              <a:stretch/>
            </p:blipFill>
            <p:spPr>
              <a:xfrm>
                <a:off x="-12600" y="321480"/>
                <a:ext cx="356400" cy="9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3" name="圆角矩形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-12600" y="234720"/>
                <a:ext cx="356400" cy="9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4" name="圆角矩形 15" descr=""/>
              <p:cNvPicPr/>
              <p:nvPr/>
            </p:nvPicPr>
            <p:blipFill>
              <a:blip r:embed="rId7"/>
              <a:stretch/>
            </p:blipFill>
            <p:spPr>
              <a:xfrm>
                <a:off x="-12600" y="207000"/>
                <a:ext cx="356400" cy="99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65" name="Picture 11" descr=""/>
          <p:cNvPicPr/>
          <p:nvPr/>
        </p:nvPicPr>
        <p:blipFill>
          <a:blip r:embed="rId8"/>
          <a:stretch/>
        </p:blipFill>
        <p:spPr>
          <a:xfrm>
            <a:off x="357120" y="2000160"/>
            <a:ext cx="8101080" cy="2556000"/>
          </a:xfrm>
          <a:prstGeom prst="rect">
            <a:avLst/>
          </a:prstGeom>
          <a:ln w="0">
            <a:noFill/>
          </a:ln>
        </p:spPr>
      </p:pic>
      <p:sp>
        <p:nvSpPr>
          <p:cNvPr id="1066" name="Text Box 13"/>
          <p:cNvSpPr/>
          <p:nvPr/>
        </p:nvSpPr>
        <p:spPr>
          <a:xfrm>
            <a:off x="762120" y="2817720"/>
            <a:ext cx="3024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宋体"/>
                <a:ea typeface="宋体"/>
              </a:rPr>
              <a:t>陈东  王爱华  马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宋体"/>
                <a:ea typeface="宋体"/>
              </a:rPr>
              <a:t>丁旭  赵军  徐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4"/>
          <p:cNvSpPr/>
          <p:nvPr/>
        </p:nvSpPr>
        <p:spPr>
          <a:xfrm>
            <a:off x="5572080" y="2571840"/>
            <a:ext cx="17146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于丽    周晓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朱小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陶伟   卢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5"/>
          <p:cNvSpPr/>
          <p:nvPr/>
        </p:nvSpPr>
        <p:spPr>
          <a:xfrm>
            <a:off x="3821040" y="2786040"/>
            <a:ext cx="103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杨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刘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李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组合 13"/>
          <p:cNvGrpSpPr/>
          <p:nvPr/>
        </p:nvGrpSpPr>
        <p:grpSpPr>
          <a:xfrm>
            <a:off x="2214720" y="3832200"/>
            <a:ext cx="3514680" cy="1037160"/>
            <a:chOff x="2214720" y="3832200"/>
            <a:chExt cx="3514680" cy="1037160"/>
          </a:xfrm>
        </p:grpSpPr>
        <p:sp>
          <p:nvSpPr>
            <p:cNvPr id="1070" name="上箭头 8"/>
            <p:cNvSpPr/>
            <p:nvPr/>
          </p:nvSpPr>
          <p:spPr>
            <a:xfrm>
              <a:off x="4297680" y="3832200"/>
              <a:ext cx="144360" cy="539640"/>
            </a:xfrm>
            <a:prstGeom prst="upArrow">
              <a:avLst>
                <a:gd name="adj1" fmla="val 50000"/>
                <a:gd name="adj2" fmla="val 53251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8"/>
            <p:cNvSpPr/>
            <p:nvPr/>
          </p:nvSpPr>
          <p:spPr>
            <a:xfrm>
              <a:off x="2214720" y="4394520"/>
              <a:ext cx="3514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66ff"/>
                  </a:solidFill>
                  <a:latin typeface="Arial"/>
                  <a:ea typeface="宋体"/>
                </a:rPr>
                <a:t>两项都参加的学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2" name="TextBox 14"/>
          <p:cNvSpPr/>
          <p:nvPr/>
        </p:nvSpPr>
        <p:spPr>
          <a:xfrm>
            <a:off x="1643040" y="4784760"/>
            <a:ext cx="57150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想一想：可以怎样列式解答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Box 15"/>
          <p:cNvSpPr/>
          <p:nvPr/>
        </p:nvSpPr>
        <p:spPr>
          <a:xfrm>
            <a:off x="2357280" y="5641920"/>
            <a:ext cx="5715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9+8-3=14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人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4" name="组合 21"/>
          <p:cNvGrpSpPr/>
          <p:nvPr/>
        </p:nvGrpSpPr>
        <p:grpSpPr>
          <a:xfrm>
            <a:off x="4000680" y="785880"/>
            <a:ext cx="4457520" cy="792000"/>
            <a:chOff x="4000680" y="785880"/>
            <a:chExt cx="4457520" cy="792000"/>
          </a:xfrm>
        </p:grpSpPr>
        <p:sp>
          <p:nvSpPr>
            <p:cNvPr id="1075" name="AutoShape 27"/>
            <p:cNvSpPr/>
            <p:nvPr/>
          </p:nvSpPr>
          <p:spPr>
            <a:xfrm>
              <a:off x="4000680" y="785880"/>
              <a:ext cx="3286080" cy="750240"/>
            </a:xfrm>
            <a:prstGeom prst="wedgeRoundRectCallout">
              <a:avLst>
                <a:gd name="adj1" fmla="val 61740"/>
                <a:gd name="adj2" fmla="val 3329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用图表示就清楚了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6" name="图片 22" descr="6)5][}VZ%@FXJ)FA]TI76$O"/>
            <p:cNvPicPr/>
            <p:nvPr/>
          </p:nvPicPr>
          <p:blipFill>
            <a:blip r:embed="rId9"/>
            <a:stretch/>
          </p:blipFill>
          <p:spPr>
            <a:xfrm>
              <a:off x="7714080" y="785880"/>
              <a:ext cx="744120" cy="792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78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9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80" name="椭圆 2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1" name="椭圆 4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88" name="文本框 8"/>
          <p:cNvSpPr/>
          <p:nvPr/>
        </p:nvSpPr>
        <p:spPr>
          <a:xfrm>
            <a:off x="1639800" y="1127160"/>
            <a:ext cx="47815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集合的思路解决重叠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文本框 9"/>
          <p:cNvSpPr/>
          <p:nvPr/>
        </p:nvSpPr>
        <p:spPr>
          <a:xfrm>
            <a:off x="279360" y="1949400"/>
            <a:ext cx="81835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两个计数部分有重复的，把两个计数部分相加再减去重复部分，就得出事物的总数；反过来，把两个计数部分相加再减去事物的总数，就得出计数的重复部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91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2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93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4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5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6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7" name="圆角矩形 2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8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9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0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01" name="TextBox 5"/>
          <p:cNvSpPr/>
          <p:nvPr/>
        </p:nvSpPr>
        <p:spPr>
          <a:xfrm>
            <a:off x="214200" y="573120"/>
            <a:ext cx="6929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把下面动物的序号填写在合适的圈里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2" name="Picture 2" descr="D:\我的文档-桌面-收藏夹\桌面\10135735_165852481163_2.jpg"/>
          <p:cNvPicPr/>
          <p:nvPr/>
        </p:nvPicPr>
        <p:blipFill>
          <a:blip r:embed="rId8"/>
          <a:stretch/>
        </p:blipFill>
        <p:spPr>
          <a:xfrm>
            <a:off x="642960" y="1427040"/>
            <a:ext cx="1143000" cy="71460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3" descr="D:\我的文档-桌面-收藏夹\桌面\猫头鹰.jpg"/>
          <p:cNvPicPr/>
          <p:nvPr/>
        </p:nvPicPr>
        <p:blipFill>
          <a:blip r:embed="rId9"/>
          <a:stretch/>
        </p:blipFill>
        <p:spPr>
          <a:xfrm>
            <a:off x="2428920" y="1284120"/>
            <a:ext cx="714240" cy="99072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4" descr="D:\我的文档-桌面-收藏夹\桌面\天鹅.jpg"/>
          <p:cNvPicPr/>
          <p:nvPr/>
        </p:nvPicPr>
        <p:blipFill>
          <a:blip r:embed="rId10"/>
          <a:stretch/>
        </p:blipFill>
        <p:spPr>
          <a:xfrm>
            <a:off x="3500280" y="1141560"/>
            <a:ext cx="1357560" cy="114300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5" descr="D:\我的文档-桌面-收藏夹\桌面\蝴蝶.jpg"/>
          <p:cNvPicPr/>
          <p:nvPr/>
        </p:nvPicPr>
        <p:blipFill>
          <a:blip r:embed="rId11"/>
          <a:stretch/>
        </p:blipFill>
        <p:spPr>
          <a:xfrm>
            <a:off x="5357880" y="1498680"/>
            <a:ext cx="1085760" cy="76680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6" descr="D:\我的文档-桌面-收藏夹\桌面\金鱼.jpg"/>
          <p:cNvPicPr/>
          <p:nvPr/>
        </p:nvPicPr>
        <p:blipFill>
          <a:blip r:embed="rId12"/>
          <a:stretch/>
        </p:blipFill>
        <p:spPr>
          <a:xfrm>
            <a:off x="6858000" y="1415880"/>
            <a:ext cx="1571760" cy="92880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7" descr="D:\我的文档-桌面-收藏夹\桌面\2493573_153943021_2.jpg"/>
          <p:cNvPicPr/>
          <p:nvPr/>
        </p:nvPicPr>
        <p:blipFill>
          <a:blip r:embed="rId13"/>
          <a:stretch/>
        </p:blipFill>
        <p:spPr>
          <a:xfrm>
            <a:off x="642960" y="2709720"/>
            <a:ext cx="1428840" cy="77328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9" descr="D:\我的文档-桌面-收藏夹\桌面\200891895538869_2.jpg"/>
          <p:cNvPicPr/>
          <p:nvPr/>
        </p:nvPicPr>
        <p:blipFill>
          <a:blip r:embed="rId14"/>
          <a:stretch/>
        </p:blipFill>
        <p:spPr>
          <a:xfrm>
            <a:off x="4357800" y="25671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0" descr="D:\我的文档-桌面-收藏夹\桌面\2707247_211057078364_2.jpg"/>
          <p:cNvPicPr/>
          <p:nvPr/>
        </p:nvPicPr>
        <p:blipFill>
          <a:blip r:embed="rId15"/>
          <a:stretch/>
        </p:blipFill>
        <p:spPr>
          <a:xfrm>
            <a:off x="6286680" y="2852640"/>
            <a:ext cx="1214280" cy="60804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1" descr="D:\我的文档-桌面-收藏夹\桌面\20121206174617_5vBYd_thumb_700_0.jpg"/>
          <p:cNvPicPr/>
          <p:nvPr/>
        </p:nvPicPr>
        <p:blipFill>
          <a:blip r:embed="rId16">
            <a:lum bright="10000"/>
          </a:blip>
          <a:stretch/>
        </p:blipFill>
        <p:spPr>
          <a:xfrm>
            <a:off x="7572240" y="2495520"/>
            <a:ext cx="989280" cy="1236600"/>
          </a:xfrm>
          <a:prstGeom prst="rect">
            <a:avLst/>
          </a:prstGeom>
          <a:ln w="0">
            <a:noFill/>
          </a:ln>
        </p:spPr>
      </p:pic>
      <p:sp>
        <p:nvSpPr>
          <p:cNvPr id="1111" name="TextBox 16"/>
          <p:cNvSpPr/>
          <p:nvPr/>
        </p:nvSpPr>
        <p:spPr>
          <a:xfrm>
            <a:off x="1500120" y="1806480"/>
            <a:ext cx="571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①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Box 17"/>
          <p:cNvSpPr/>
          <p:nvPr/>
        </p:nvSpPr>
        <p:spPr>
          <a:xfrm>
            <a:off x="3000240" y="1806480"/>
            <a:ext cx="571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②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Box 18"/>
          <p:cNvSpPr/>
          <p:nvPr/>
        </p:nvSpPr>
        <p:spPr>
          <a:xfrm>
            <a:off x="4214880" y="1949400"/>
            <a:ext cx="571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Box 19"/>
          <p:cNvSpPr/>
          <p:nvPr/>
        </p:nvSpPr>
        <p:spPr>
          <a:xfrm>
            <a:off x="6143760" y="1949400"/>
            <a:ext cx="571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④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Box 20"/>
          <p:cNvSpPr/>
          <p:nvPr/>
        </p:nvSpPr>
        <p:spPr>
          <a:xfrm>
            <a:off x="8001000" y="1878120"/>
            <a:ext cx="571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⑤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Box 21"/>
          <p:cNvSpPr/>
          <p:nvPr/>
        </p:nvSpPr>
        <p:spPr>
          <a:xfrm>
            <a:off x="1357200" y="3089160"/>
            <a:ext cx="571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⑥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Box 22"/>
          <p:cNvSpPr/>
          <p:nvPr/>
        </p:nvSpPr>
        <p:spPr>
          <a:xfrm>
            <a:off x="3357720" y="2712960"/>
            <a:ext cx="571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Box 23"/>
          <p:cNvSpPr/>
          <p:nvPr/>
        </p:nvSpPr>
        <p:spPr>
          <a:xfrm>
            <a:off x="4786200" y="3232080"/>
            <a:ext cx="571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⑧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Box 24"/>
          <p:cNvSpPr/>
          <p:nvPr/>
        </p:nvSpPr>
        <p:spPr>
          <a:xfrm>
            <a:off x="6429240" y="3303720"/>
            <a:ext cx="571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⑨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Box 25"/>
          <p:cNvSpPr/>
          <p:nvPr/>
        </p:nvSpPr>
        <p:spPr>
          <a:xfrm>
            <a:off x="7929720" y="3375000"/>
            <a:ext cx="571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⑩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椭圆 26"/>
          <p:cNvSpPr/>
          <p:nvPr/>
        </p:nvSpPr>
        <p:spPr>
          <a:xfrm>
            <a:off x="2286000" y="4424400"/>
            <a:ext cx="3143160" cy="13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椭圆 27"/>
          <p:cNvSpPr/>
          <p:nvPr/>
        </p:nvSpPr>
        <p:spPr>
          <a:xfrm>
            <a:off x="3714840" y="4424400"/>
            <a:ext cx="3143160" cy="1357200"/>
          </a:xfrm>
          <a:prstGeom prst="ellipse">
            <a:avLst/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Box 28"/>
          <p:cNvSpPr/>
          <p:nvPr/>
        </p:nvSpPr>
        <p:spPr>
          <a:xfrm>
            <a:off x="2928960" y="3852720"/>
            <a:ext cx="17143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会游泳的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29"/>
          <p:cNvSpPr/>
          <p:nvPr/>
        </p:nvSpPr>
        <p:spPr>
          <a:xfrm>
            <a:off x="5000760" y="3852720"/>
            <a:ext cx="128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会飞的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5" name="直接箭头连接符 31"/>
          <p:cNvCxnSpPr/>
          <p:nvPr/>
        </p:nvCxnSpPr>
        <p:spPr>
          <a:xfrm flipV="1">
            <a:off x="4570560" y="5566680"/>
            <a:ext cx="2160" cy="500760"/>
          </a:xfrm>
          <a:prstGeom prst="straightConnector1">
            <a:avLst/>
          </a:prstGeom>
          <a:ln w="9360">
            <a:solidFill>
              <a:srgbClr val="72bfc5"/>
            </a:solidFill>
            <a:round/>
            <a:tailEnd len="med" type="arrow" w="med"/>
          </a:ln>
        </p:spPr>
      </p:cxnSp>
      <p:sp>
        <p:nvSpPr>
          <p:cNvPr id="1126" name="TextBox 33"/>
          <p:cNvSpPr/>
          <p:nvPr/>
        </p:nvSpPr>
        <p:spPr>
          <a:xfrm>
            <a:off x="4000680" y="5856120"/>
            <a:ext cx="18572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表示什么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Box 37"/>
          <p:cNvSpPr/>
          <p:nvPr/>
        </p:nvSpPr>
        <p:spPr>
          <a:xfrm>
            <a:off x="2643120" y="4710240"/>
            <a:ext cx="1143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①③⑤⑥⑨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Box 39"/>
          <p:cNvSpPr/>
          <p:nvPr/>
        </p:nvSpPr>
        <p:spPr>
          <a:xfrm>
            <a:off x="5357880" y="4710240"/>
            <a:ext cx="13572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②④⑧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Box 40"/>
          <p:cNvSpPr/>
          <p:nvPr/>
        </p:nvSpPr>
        <p:spPr>
          <a:xfrm>
            <a:off x="4286160" y="4781520"/>
            <a:ext cx="571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③ 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Box 34"/>
          <p:cNvSpPr/>
          <p:nvPr/>
        </p:nvSpPr>
        <p:spPr>
          <a:xfrm>
            <a:off x="5715000" y="5784840"/>
            <a:ext cx="32148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既会游泳又会飞的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1" name="Picture 3" descr=""/>
          <p:cNvPicPr/>
          <p:nvPr/>
        </p:nvPicPr>
        <p:blipFill>
          <a:blip r:embed="rId17"/>
          <a:stretch/>
        </p:blipFill>
        <p:spPr>
          <a:xfrm>
            <a:off x="2214720" y="2498760"/>
            <a:ext cx="1071360" cy="121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Text Box 8"/>
          <p:cNvSpPr/>
          <p:nvPr/>
        </p:nvSpPr>
        <p:spPr>
          <a:xfrm>
            <a:off x="357120" y="4429080"/>
            <a:ext cx="878688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既荣获“语文之星”又荣获“数学之星”的有（  ）人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上光荣榜的一共有（   ）人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10"/>
          <p:cNvSpPr/>
          <p:nvPr/>
        </p:nvSpPr>
        <p:spPr>
          <a:xfrm>
            <a:off x="71280" y="522360"/>
            <a:ext cx="10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4" name="Picture 11" descr=""/>
          <p:cNvPicPr/>
          <p:nvPr/>
        </p:nvPicPr>
        <p:blipFill>
          <a:blip r:embed="rId1"/>
          <a:stretch/>
        </p:blipFill>
        <p:spPr>
          <a:xfrm>
            <a:off x="571680" y="714240"/>
            <a:ext cx="8072280" cy="3517920"/>
          </a:xfrm>
          <a:prstGeom prst="rect">
            <a:avLst/>
          </a:prstGeom>
          <a:ln w="0">
            <a:noFill/>
          </a:ln>
        </p:spPr>
      </p:pic>
      <p:sp>
        <p:nvSpPr>
          <p:cNvPr id="1135" name="TextBox 6"/>
          <p:cNvSpPr/>
          <p:nvPr/>
        </p:nvSpPr>
        <p:spPr>
          <a:xfrm>
            <a:off x="7500960" y="4357800"/>
            <a:ext cx="500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Box 7"/>
          <p:cNvSpPr/>
          <p:nvPr/>
        </p:nvSpPr>
        <p:spPr>
          <a:xfrm>
            <a:off x="3571920" y="5072040"/>
            <a:ext cx="78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7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38" name="圆角矩形 1" descr=""/>
            <p:cNvPicPr/>
            <p:nvPr/>
          </p:nvPicPr>
          <p:blipFill>
            <a:blip r:embed="rId2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9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40" name="椭圆 2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1" name="椭圆 4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2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3" name="椭圆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4" name="圆角矩形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5" name="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6" name="圆角矩形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7" name="圆角矩形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49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0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51" name="椭圆 2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2" name="椭圆 4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3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9" name="文本框 101"/>
          <p:cNvSpPr/>
          <p:nvPr/>
        </p:nvSpPr>
        <p:spPr>
          <a:xfrm>
            <a:off x="279360" y="89856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森林运动会开始啦！下面是小动物们的报名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0" name=""/>
          <p:cNvGraphicFramePr/>
          <p:nvPr/>
        </p:nvGraphicFramePr>
        <p:xfrm>
          <a:off x="947880" y="1733400"/>
          <a:ext cx="7167600" cy="1552680"/>
        </p:xfrm>
        <a:graphic>
          <a:graphicData uri="http://schemas.openxmlformats.org/drawingml/2006/table">
            <a:tbl>
              <a:tblPr/>
              <a:tblGrid>
                <a:gridCol w="896760"/>
                <a:gridCol w="895680"/>
                <a:gridCol w="895320"/>
                <a:gridCol w="896760"/>
                <a:gridCol w="895320"/>
                <a:gridCol w="897120"/>
                <a:gridCol w="893520"/>
                <a:gridCol w="897120"/>
              </a:tblGrid>
              <a:tr h="76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跑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狮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小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小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小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狐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袋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小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跳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小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狐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小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猴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小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小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袋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1" name="文本框 8"/>
          <p:cNvSpPr/>
          <p:nvPr/>
        </p:nvSpPr>
        <p:spPr>
          <a:xfrm>
            <a:off x="947880" y="343692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共有多少个小动物参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2" name="组合 3"/>
          <p:cNvGrpSpPr/>
          <p:nvPr/>
        </p:nvGrpSpPr>
        <p:grpSpPr>
          <a:xfrm>
            <a:off x="1096920" y="3956040"/>
            <a:ext cx="6433920" cy="2184480"/>
            <a:chOff x="1096920" y="3956040"/>
            <a:chExt cx="6433920" cy="2184480"/>
          </a:xfrm>
        </p:grpSpPr>
        <p:sp>
          <p:nvSpPr>
            <p:cNvPr id="1163" name="Oval 22"/>
            <p:cNvSpPr/>
            <p:nvPr/>
          </p:nvSpPr>
          <p:spPr>
            <a:xfrm>
              <a:off x="1096920" y="3956040"/>
              <a:ext cx="3972960" cy="1088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Oval 28"/>
            <p:cNvSpPr/>
            <p:nvPr/>
          </p:nvSpPr>
          <p:spPr>
            <a:xfrm>
              <a:off x="3557880" y="3956040"/>
              <a:ext cx="3972960" cy="1088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Line 31"/>
            <p:cNvSpPr/>
            <p:nvPr/>
          </p:nvSpPr>
          <p:spPr>
            <a:xfrm>
              <a:off x="4248360" y="5044320"/>
              <a:ext cx="18000" cy="4950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Rectangle 34"/>
            <p:cNvSpPr/>
            <p:nvPr/>
          </p:nvSpPr>
          <p:spPr>
            <a:xfrm>
              <a:off x="2031120" y="5631480"/>
              <a:ext cx="4453920" cy="50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7" name="文本框 5"/>
          <p:cNvSpPr/>
          <p:nvPr/>
        </p:nvSpPr>
        <p:spPr>
          <a:xfrm>
            <a:off x="679320" y="4930920"/>
            <a:ext cx="89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跑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文本框 6"/>
          <p:cNvSpPr/>
          <p:nvPr/>
        </p:nvSpPr>
        <p:spPr>
          <a:xfrm>
            <a:off x="6550200" y="4800600"/>
            <a:ext cx="896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跳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文本框 7"/>
          <p:cNvSpPr/>
          <p:nvPr/>
        </p:nvSpPr>
        <p:spPr>
          <a:xfrm>
            <a:off x="1378080" y="4138560"/>
            <a:ext cx="9316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狮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文本框 8"/>
          <p:cNvSpPr/>
          <p:nvPr/>
        </p:nvSpPr>
        <p:spPr>
          <a:xfrm>
            <a:off x="3559320" y="4065480"/>
            <a:ext cx="930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小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文本框 9"/>
          <p:cNvSpPr/>
          <p:nvPr/>
        </p:nvSpPr>
        <p:spPr>
          <a:xfrm>
            <a:off x="2019240" y="4138560"/>
            <a:ext cx="9320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小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文本框 10"/>
          <p:cNvSpPr/>
          <p:nvPr/>
        </p:nvSpPr>
        <p:spPr>
          <a:xfrm>
            <a:off x="4105440" y="4065480"/>
            <a:ext cx="9316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小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文本框 11"/>
          <p:cNvSpPr/>
          <p:nvPr/>
        </p:nvSpPr>
        <p:spPr>
          <a:xfrm>
            <a:off x="3660840" y="4402080"/>
            <a:ext cx="9316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狐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文本框 12"/>
          <p:cNvSpPr/>
          <p:nvPr/>
        </p:nvSpPr>
        <p:spPr>
          <a:xfrm>
            <a:off x="4248000" y="4402080"/>
            <a:ext cx="9320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袋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文本框 13"/>
          <p:cNvSpPr/>
          <p:nvPr/>
        </p:nvSpPr>
        <p:spPr>
          <a:xfrm>
            <a:off x="2627280" y="4138560"/>
            <a:ext cx="9320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小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文本框 14"/>
          <p:cNvSpPr/>
          <p:nvPr/>
        </p:nvSpPr>
        <p:spPr>
          <a:xfrm>
            <a:off x="5070600" y="4065480"/>
            <a:ext cx="930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小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文本框 15"/>
          <p:cNvSpPr/>
          <p:nvPr/>
        </p:nvSpPr>
        <p:spPr>
          <a:xfrm>
            <a:off x="5827680" y="4065480"/>
            <a:ext cx="9320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猴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文本框 16"/>
          <p:cNvSpPr/>
          <p:nvPr/>
        </p:nvSpPr>
        <p:spPr>
          <a:xfrm>
            <a:off x="5070600" y="4514760"/>
            <a:ext cx="930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小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9" name="组合 20"/>
          <p:cNvGrpSpPr/>
          <p:nvPr/>
        </p:nvGrpSpPr>
        <p:grpSpPr>
          <a:xfrm>
            <a:off x="2309760" y="5351400"/>
            <a:ext cx="4449600" cy="905040"/>
            <a:chOff x="2309760" y="5351400"/>
            <a:chExt cx="4449600" cy="905040"/>
          </a:xfrm>
        </p:grpSpPr>
        <p:sp>
          <p:nvSpPr>
            <p:cNvPr id="1180" name="文本框 17"/>
            <p:cNvSpPr/>
            <p:nvPr/>
          </p:nvSpPr>
          <p:spPr>
            <a:xfrm>
              <a:off x="3385440" y="5539680"/>
              <a:ext cx="10072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文本框 18"/>
            <p:cNvSpPr/>
            <p:nvPr/>
          </p:nvSpPr>
          <p:spPr>
            <a:xfrm>
              <a:off x="2309760" y="5410080"/>
              <a:ext cx="1366560" cy="78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一共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文本框 19"/>
            <p:cNvSpPr/>
            <p:nvPr/>
          </p:nvSpPr>
          <p:spPr>
            <a:xfrm>
              <a:off x="3904200" y="5351400"/>
              <a:ext cx="2855160" cy="9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个小动物参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9T02:49:33Z</dcterms:created>
  <dc:creator/>
  <dc:description/>
  <dc:language>en-US</dc:language>
  <cp:lastModifiedBy>万润仪器贸易公司</cp:lastModifiedBy>
  <dcterms:modified xsi:type="dcterms:W3CDTF">2020-08-21T01:41:32Z</dcterms:modified>
  <cp:revision>1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